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4E6-B1CE-4223-8CC5-54282BF9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772-07F4-4208-B2D9-AFE48161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0FA-5BAB-4494-8D3B-E7806316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ACA-A0B4-4FA9-B9C2-6C5E57F0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465-D627-4B13-959F-E9B2DD8C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A59-D305-4265-A168-B67F78C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F7A-C83E-44E3-A5F6-2947CBB2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1EF-0D2C-419B-9693-AC90E769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3E8-CD3C-41CA-B100-A4353E4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DC8-CF89-4CC6-8DFA-C8A4809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BF5-688D-46C0-8968-C25A256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ED0-950E-4854-9832-0DB8B592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buClr>
                <a:srgbClr val="6e8b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6720" y="640044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7058-A614-4412-A96A-7E9A7DA159D9}" type="slidenum"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5880" y="5892840"/>
            <a:ext cx="2819520" cy="507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0"/>
            <a:ext cx="380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NIVERSITY OF VIRGIN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440"/>
            <a:ext cx="1901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AF5-CD7C-4A8B-829A-967CF47416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1 Core plus FPU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vid Tarj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ausewitz: “War is very simple, but in War the simplest things become very difficult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alogy: HW Synthesis is very simple, but in HW Synthesis the simplest things become very difficul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single core with FP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PU wired in through wishbone interfa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1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module s1_top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ys_clock_i, sys_reset_i, sys_irq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ack_i, wbm_data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cycle_o, wbm_strobe_o, wbm_we_o, wbm_addr_o, wbm_data_o, wbm_sel_o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module instanc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arc sparc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to Wishbone Master bridg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c2wbm spc2wbm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/ FPU outputs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req_pq(fpu_pcx_req_pq),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data_pa(fpu_pcx_data_pa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dt: adding FPU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fpu fpu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rdy_px2(fpu_pcx_req_pq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px2(fpu_pcx_data_pa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arst_l(cmp_a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rst_l(cmp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clk(gclk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luster_cken(cluster_cke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req_cq(cpx_fpu_request_px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data_ca(cpx_fpu_data_cx2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pre_grst_l(ctu_tst_pre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lobal_shift_enable(global_shift_en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_disable(ctu_tst_scan_dis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mode(ctu_tst_scanmod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macrotest(ctu_tst_macrotest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hort_chain(ctu_tst_short_cha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i(fpu_scan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o(fpu_scanout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Rese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rst_ctrl rs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Interrup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int_ctrl in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endmodul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ther proble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de for most modules have ifdefs for synthesis (FPGA_SYN), Sun’s somewhat custom synthesis (DEFINE_0IN) and a generic synthesis (everything els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n’s code path has some proble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ta cache and instruction cache are incomple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/`ifdef DEFINE_0I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ire [3:0] dc_we = dcache_wvld_m ? dcache_wr_rway_m : 4'b0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0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0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0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1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1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1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2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2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2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3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3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3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`els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ote those modules, using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ront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ing TSMC 0.18u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SRAM macros Cadence tutori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56x16 and 128x16 bit hard macro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ynthesis 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Instance                                              Cells   Cell Area   Net Area     Wireloa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1_top                                               109398    13906100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parc_0                                             86549    13246901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fpu_0                                               20987      605398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Back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/O: 270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rea: 21.9 mm^2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rns out the SRAM macro 128x16 has same area 256x16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6:06:44Z</dcterms:created>
  <dc:creator>dtarjan</dc:creator>
  <dc:description/>
  <dc:language>en-US</dc:language>
  <cp:lastModifiedBy>dtarjan</cp:lastModifiedBy>
  <dcterms:modified xsi:type="dcterms:W3CDTF">2006-12-13T17:55:18Z</dcterms:modified>
  <cp:revision>16</cp:revision>
  <dc:subject/>
  <dc:title>S1 Core plus FPU</dc:title>
</cp:coreProperties>
</file>